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CD988-13B4-472F-9AEF-090F95C11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BB96C-2A2A-4C06-82DB-CE042F131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B3EECB-4BF3-424B-B4D0-019A84451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D576E8-29C8-4261-8F86-DABFE6B6A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A239E6-0210-4DE5-B629-2ACDF1F66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3AB907-17FD-4CBA-92B4-9D9022702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1D5621-72A6-4679-B302-F2C3D117A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1B7277-18DB-4612-BA65-D1FC9BE4C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160BC1-257E-45B5-BD20-A35A44CF0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4CC779-97AB-4B6E-96A8-2C3CF62F9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D3130A-B171-4E21-A8F2-24073EF82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4872F7-236C-40B6-8C58-B95503BB7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9DA83-1520-4CAB-8EBB-DA72BE618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2FD7DD-A69F-44C9-98FF-C06548685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8D4A7E-E774-4499-A2D2-AF756AA97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C40448-757A-4381-B974-73EC01A61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261FCD-5E1A-475D-9261-F7B454766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248CDC-B0D9-4769-A1BA-7D3D6633C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7F7AE2-3309-4676-A6D3-656C0A0A4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D9D6E2-721C-416A-8D47-2A4A74E2C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40BAFB-19C8-42CC-98C9-16C1EE110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4C9128-A9C8-49BE-AA9F-1A9A6D1A7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72D860-8571-4AE5-AF81-9494F04AC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A5AA9-8E0E-4C37-B0EE-5642783D1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F7CD57-3E39-4B68-AFDE-93BBF027F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334E0A-8800-40CD-9AF8-0292F047A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2E60B9-53D9-4559-9DAE-D4E5DA1D0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C7B64E-3D49-454F-89C2-AB0E51D6C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785FB0-DDAE-4B4B-9453-2C0E5B0BA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3CBB48-2549-46C6-85EA-4F47BFE24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82F62C-D557-4438-A61F-99763BDFE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4F5EB6-425D-4D18-890C-88E7883D9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C4250A-7446-45DE-8326-37D5B9243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2C1795-E278-4E77-B40F-CF2EA5034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8825E-CC9E-4491-81C7-FE245040B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2729EF-DBE0-499F-ACEB-2C48EADC5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F7E059-677C-46AE-9079-3D49DE346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5C2F86-109C-42F4-80B6-AA6372BA9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DF2482-3D39-4B34-91A0-8E455F120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C03889-12FC-4265-A093-185FE4EE7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7B8CB4-A87C-4D3E-8A74-7C1735D7E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4CAB8F-B9D5-4E4E-BF35-2EB01D551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5A76AB-586B-4EC1-93ED-7B979B74A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D73C1B-37FE-4558-9737-1B5B2EACA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826D9E-45FF-4F04-AAC7-FD0056BFD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D33ED-BB46-4361-B0CC-7A967E4DF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F62EB2-343F-4F5C-87FB-5D67731EA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B04532-D9E3-407E-9D31-C66F5EC8B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73C88C-8243-4785-8CAB-B5E8E84AA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05150C-ACDE-483B-A04E-826D5802F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9819E7-4DDE-49F3-A874-0A4A78EC7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F7A51-9D18-43BE-B503-2410CA79A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C12F0-CFAF-477F-8942-56EA97779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57F71-FFCD-42DC-A01C-39EBC0A15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76558-7983-475B-96E7-55BF3B404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7B520-9B0F-4CDE-A128-EA0444A09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36EBE-DC61-4CB6-9F2C-EABD72CFE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3329E-B03E-484E-AC57-9ABD2874C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73D72-F50D-4D00-B73D-5ABEA578A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EFB9D-48B7-4A25-8799-687A9F9D6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9D0D1-7734-4133-B250-3676D67E7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177BF-3D39-43A0-B035-B639B30E6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7A67B7-CB9B-40FE-93E0-849101447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31C4B8-D3B6-4CA8-9BB9-7492D136C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B5B757-E709-44AD-9F62-D7E7CEE17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6F4418-EE86-4045-90E1-CD892FD91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DCC22E-18C8-4F44-A7FD-F0F6642FF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40574-7A73-4F9E-864F-C6141DF70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8DC1F6-EE18-43D6-A7B5-580CB6052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5F3C4D-F014-495F-ABEB-7EFE13875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5702F3-2B45-4219-88DC-93CC129BE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9B83F9-A39A-494F-9D69-3A2D4C9C4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D20C13-3DA5-4AC6-9A39-46FF9C8C3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C080E9-4613-4809-9D08-9309E8CAD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61EAD2-52AE-4391-AE1C-52139517A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25EF7B-5F5F-4790-8896-793EF0DA3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D8F614-3E5D-49CB-9E9C-783409167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BEE272-5B8C-4FA7-AE3E-20E287E70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393FA-6396-435C-B281-9EBDB42AF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7CF15A-0E7F-496C-BE96-A40100EBF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003E7D-93FD-4848-A692-3ACD55FF7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3A7B39-2ABA-4A7C-AF93-CAC2EE487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8BBD82-9587-45E4-AE1F-8EE8C624C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1E54D5-AD11-4129-BC43-83F4103ED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8A26B0-93C5-4BDD-9008-BFBDFC05E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B05987-4911-4C4A-8885-F93998538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9A015E-8C7D-4A9B-8923-54EFF61D1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71CD1E-2D2F-4DEF-95C8-32703C991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81F335-36DC-47D4-A665-1FEC087C3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B9E61-5671-40F8-AEE5-E3064199C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C5D779-D7E4-4F82-88CE-EBF9DFEE8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FF9546-7733-4F4B-815B-59500F8BA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525103-994D-495B-BC02-05D838BE9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2C4FE4-4FEB-46F6-9826-BE27B3218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0AEFFF-1DC5-4D43-A677-9FE0E4818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876989-8550-4AC4-840E-AA7C92516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D76BA2-B498-4BDA-BDE9-10FB0D2BF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AC3703-964C-440B-8603-61A6544C5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4F7591-2DF2-4481-84CF-6EBE48C30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2C9096-E2A5-4BBD-8EE9-CA78C77AC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56F36-8669-4FA8-9C13-983FAA823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C32F89-64F4-44D5-97F2-0C92F2890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885107-FA7B-4BEE-8DB6-2D0A1333C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CD5879-0B6D-40D7-AAD8-BE92F22C8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7F2A3C-0FA7-4A4F-A732-CC8703ADD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BFCE37-6345-4911-9D57-8A16B757C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6E04C9-B232-4426-BF4E-E06F31C20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C3A4F9-2982-4A4E-81E1-25AA9192C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2DFBB3-5CFC-48A1-AE40-9651E20BC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0806AF-2DC7-4B4B-82B3-69848E84F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D47681-0DA9-4D99-AD06-2B1E6925F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2B10B-4265-4E1B-8450-610447E10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DF70C1-EA78-4D19-BCC8-0F24F65B6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F2426C-7C63-49B0-80A9-0B7077862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F991AF-75AF-4C76-A1D1-ED02B15E3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F158AA-7CA5-4F69-B829-2C33C6F80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308D11-D70A-48EC-8928-D58424A16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547090-8D15-470F-A00B-BFF8049F2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1AC934-7FC1-4416-8681-6B49ACACC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9F5C85-354B-4FA2-AEA8-3FF49F813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B5E90D-591F-46F4-B2F3-A42311290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9ABEA7-BD89-4CD3-A1AA-1A4EE428B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B1EA0-9E81-428F-B418-9929C9AA4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107888-2358-49A2-89C2-B512AAAE0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BD7718-2576-4B65-BDCD-AC0C5F4E5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67B5B0-5C25-4868-82C6-0B099F63C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0674BE-9E79-4395-BAFF-573677217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345EDA-0D4B-49F4-AC9D-96A22D83C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9FB97D-B34E-43C0-8436-5AABD970E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FE396C-F832-4387-B126-F573F61C5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A98A49-6A53-4CED-AEA8-F4A00921C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3E1973-EFAC-422A-8005-4A8695B35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D81F2F-8B83-4647-B050-D41DE0D49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41434-56FE-4939-B0F9-B1B4E8361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30683D-C8BF-46BA-AFE6-E1445ABF6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3A6102-0D9D-4443-BCCC-FB00D4162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4E2628-0267-4F09-A7CF-CE3DF173D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8D31FE-962F-44AD-B8F1-385D5A0E4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97621A-02E5-4DE0-91BD-3D8DE0F83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9E9C72-B72B-47C3-A330-C5B995F97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08F08B-131F-403E-B823-AE9A944D4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BE2ADC-1143-4167-B6CE-06E3F5D06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78BA61-E4BD-42B4-9F71-C5252B5F8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53AC80-2032-4098-A738-4F0639DF6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2.png"/><Relationship Id="rId5" Type="http://schemas.openxmlformats.org/officeDocument/2006/relationships/image" Target="../media/image3.jpe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Line 3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Picture 4" descr="A:\minispir.GIF"/>
          <p:cNvPicPr/>
          <p:nvPr/>
        </p:nvPicPr>
        <p:blipFill>
          <a:blip r:embed="rId3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5" descr="A:\minispir.GIF"/>
          <p:cNvPicPr/>
          <p:nvPr/>
        </p:nvPicPr>
        <p:blipFill>
          <a:blip r:embed="rId4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1525E-4860-430D-BC9D-45BB9EE51A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 type="dt" idx="28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 type="ftr" idx="29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 type="sldNum" idx="30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7B91A-F7C5-432E-918F-F2ECBC9D06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 type="dt" idx="3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 type="ftr" idx="3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 type="sldNum" idx="3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68DA6-DB73-49F6-AC1B-4AAB7FD994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dt" idx="34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ftr" idx="35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sldNum" idx="36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5B4DC-3479-47D9-A09E-6ABFCAADB5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1026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1027" descr="A:\minispir.GIF"/>
          <p:cNvPicPr/>
          <p:nvPr/>
        </p:nvPicPr>
        <p:blipFill>
          <a:blip r:embed="rId4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28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1029" descr="A:\minispir.GIF"/>
          <p:cNvPicPr/>
          <p:nvPr/>
        </p:nvPicPr>
        <p:blipFill>
          <a:blip r:embed="rId6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62862-41EB-49E2-891F-B038723835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DC29B-9AB5-4BE9-A7D5-3DFFA9A39E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BAC25-B0E6-4A19-9982-4A242E2E12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F7C21-1BD8-4DA7-B141-22AA3D3800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23FA3-E5A6-466B-8535-35A002AFE1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dt" idx="19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 type="ftr" idx="20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 type="sldNum" idx="21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7D8C0-D150-47B1-9050-898917FF1D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22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ftr" idx="23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sldNum" idx="24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CABE2-2716-4929-9581-20AC7ACBBE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dt" idx="25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ftr" idx="26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 type="sldNum" idx="27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F418A-3A36-40F1-94CF-B11ABD2AAF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914040" y="129492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Garamond"/>
              </a:rPr>
              <a:t>ACT English Tes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subTitle"/>
          </p:nvPr>
        </p:nvSpPr>
        <p:spPr>
          <a:xfrm>
            <a:off x="1625760" y="2895480"/>
            <a:ext cx="6400800" cy="17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5 pass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75 questions (15 per passag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45 minu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Garamond"/>
              </a:rPr>
              <a:t>Transitional Movement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subTitle"/>
          </p:nvPr>
        </p:nvSpPr>
        <p:spPr>
          <a:xfrm>
            <a:off x="162576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Questions which ask you to recognize adequate and appropriate use of transitional words and phra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990360" y="106632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Garamond"/>
              </a:rPr>
              <a:t>Transition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1523880" y="2286000"/>
            <a:ext cx="64008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Addition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:  </a:t>
            </a:r>
            <a:r>
              <a:rPr b="0" i="1" lang="en-US" sz="2800" spc="-1" strike="noStrike">
                <a:solidFill>
                  <a:srgbClr val="000000"/>
                </a:solidFill>
                <a:latin typeface="Garamond"/>
              </a:rPr>
              <a:t>also, besides, furtherm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Contrast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:  </a:t>
            </a:r>
            <a:r>
              <a:rPr b="0" i="1" lang="en-US" sz="2800" spc="-1" strike="noStrike">
                <a:solidFill>
                  <a:srgbClr val="000000"/>
                </a:solidFill>
                <a:latin typeface="Garamond"/>
              </a:rPr>
              <a:t>however, nevertheless, y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Cause &amp; Effect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:  </a:t>
            </a:r>
            <a:r>
              <a:rPr b="0" i="1" lang="en-US" sz="2800" spc="-1" strike="noStrike">
                <a:solidFill>
                  <a:srgbClr val="000000"/>
                </a:solidFill>
                <a:latin typeface="Garamond"/>
              </a:rPr>
              <a:t>thus, therefore, si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Emphasis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:  </a:t>
            </a:r>
            <a:r>
              <a:rPr b="0" i="1" lang="en-US" sz="2800" spc="-1" strike="noStrike">
                <a:solidFill>
                  <a:srgbClr val="000000"/>
                </a:solidFill>
                <a:latin typeface="Garamond"/>
              </a:rPr>
              <a:t>in fact, indeed, especial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Time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:  </a:t>
            </a:r>
            <a:r>
              <a:rPr b="0" i="1" lang="en-US" sz="2800" spc="-1" strike="noStrike">
                <a:solidFill>
                  <a:srgbClr val="000000"/>
                </a:solidFill>
                <a:latin typeface="Garamond"/>
              </a:rPr>
              <a:t>next, then, finally, meanwh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Example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:  </a:t>
            </a:r>
            <a:r>
              <a:rPr b="0" i="1" lang="en-US" sz="2800" spc="-1" strike="noStrike">
                <a:solidFill>
                  <a:srgbClr val="000000"/>
                </a:solidFill>
                <a:latin typeface="Garamond"/>
              </a:rPr>
              <a:t>for instance, for example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Garamond"/>
              </a:rPr>
              <a:t>Relevancy of Material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subTitle"/>
          </p:nvPr>
        </p:nvSpPr>
        <p:spPr>
          <a:xfrm>
            <a:off x="1600200" y="342900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Questions which ask you to recognize irrelevant material--material that is technically correct but does not relate to the topic being discuss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Garamond"/>
              </a:rPr>
              <a:t>Questions about the Writing Styl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162576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12 questions based on the concepts covered in the following sli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Garamond"/>
              </a:rPr>
              <a:t>Formal or Casual Styl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1600200" y="32000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Point of 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Word choice (dictio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ubject Mat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Garamond"/>
              </a:rPr>
              <a:t>Diction – Connotation of Word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1600200" y="327636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The doctor found that the new procedure caused his mortality rate to drop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Garamond"/>
              </a:rPr>
              <a:t>alarming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Garamond"/>
              </a:rPr>
              <a:t>Questions about the Organization of the Writing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subTitle"/>
          </p:nvPr>
        </p:nvSpPr>
        <p:spPr>
          <a:xfrm>
            <a:off x="162576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11 questions testing your ability to recognize proper order of words, sentences, and paragraph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 type="subTitle"/>
          </p:nvPr>
        </p:nvSpPr>
        <p:spPr>
          <a:xfrm>
            <a:off x="1676520" y="1295280"/>
            <a:ext cx="64008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ests your ability to recognize logical order in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nt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Paragraph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Essa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Garamond"/>
              </a:rPr>
              <a:t>Rules for Answering Rhetorical Skills Questions.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subTitle"/>
          </p:nvPr>
        </p:nvSpPr>
        <p:spPr>
          <a:xfrm>
            <a:off x="162576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Rule #1 – When in doubt, remove the underlined por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066320" y="53316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Garamond"/>
              </a:rPr>
              <a:t>Taking it out…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subTitle"/>
          </p:nvPr>
        </p:nvSpPr>
        <p:spPr>
          <a:xfrm>
            <a:off x="1523880" y="1523880"/>
            <a:ext cx="6400800" cy="17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1/3 of questions on the ACT are for bad writing habits such as long windedness, repetitiousness, and irreleva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Be Concise – The shortest answers are correct ½ of the ti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Omit – when offered is the shortest answ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Garamond"/>
              </a:rPr>
              <a:t>English Test  Content Covered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subTitle"/>
          </p:nvPr>
        </p:nvSpPr>
        <p:spPr>
          <a:xfrm>
            <a:off x="162576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Usage/Mechanics – 53% (40 Question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Rhetorical Skills – 47% (35 Question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Garamond"/>
              </a:rPr>
              <a:t>When in doubt…omit or remov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162576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e first thing to think about is getting rid of unnecessary or irrelevant wor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Garamond"/>
              </a:rPr>
              <a:t>When in doubt…omit or remov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1523880" y="3352320"/>
            <a:ext cx="64008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Only after you have decided that the underlined selection is concise and relevant do you go on and look for technical erro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914040" y="38052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Garamond"/>
              </a:rPr>
              <a:t>Taking it out…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subTitle"/>
          </p:nvPr>
        </p:nvSpPr>
        <p:spPr>
          <a:xfrm>
            <a:off x="837720" y="1447920"/>
            <a:ext cx="762012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Redundancy – Never let the passage repea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Relevance – Information that is technically correct but not relevant must g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Wordiness – Don’t use more words than necessary to say someth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Garamond"/>
              </a:rPr>
              <a:t>Rule #2 for Answering </a:t>
            </a:r>
            <a:br>
              <a:rPr sz="4400"/>
            </a:br>
            <a:r>
              <a:rPr b="0" lang="en-US" sz="4400" spc="-1" strike="noStrike">
                <a:solidFill>
                  <a:srgbClr val="221304"/>
                </a:solidFill>
                <a:latin typeface="Garamond"/>
              </a:rPr>
              <a:t>Rhetorical Skills Question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 type="subTitle"/>
          </p:nvPr>
        </p:nvSpPr>
        <p:spPr>
          <a:xfrm>
            <a:off x="162576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aramond"/>
              </a:rPr>
              <a:t>Make it make sense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914040" y="144756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Garamond"/>
              </a:rPr>
              <a:t>Make it make sense!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 type="subTitle"/>
          </p:nvPr>
        </p:nvSpPr>
        <p:spPr>
          <a:xfrm>
            <a:off x="1752480" y="2666520"/>
            <a:ext cx="64008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omplete sentences – Fragments and run-ons appear frequently on the A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orrectly placed modifi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Adequate and appropriate transi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orrect verb us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onsistent T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Garamond"/>
              </a:rPr>
              <a:t>Rule #3 for Answering </a:t>
            </a:r>
            <a:br>
              <a:rPr sz="4400"/>
            </a:br>
            <a:r>
              <a:rPr b="0" lang="en-US" sz="4400" spc="-1" strike="noStrike">
                <a:solidFill>
                  <a:srgbClr val="221304"/>
                </a:solidFill>
                <a:latin typeface="Garamond"/>
              </a:rPr>
              <a:t>Rhetorical Skills Question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subTitle"/>
          </p:nvPr>
        </p:nvSpPr>
        <p:spPr>
          <a:xfrm>
            <a:off x="162576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Garamond"/>
              </a:rPr>
              <a:t>Trust your ear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Garamond"/>
              </a:rPr>
              <a:t>Trust your ear!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subTitle"/>
          </p:nvPr>
        </p:nvSpPr>
        <p:spPr>
          <a:xfrm>
            <a:off x="162576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hifts in constr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one/Point of View/Tense/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Dial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Garamond"/>
              </a:rPr>
              <a:t>Usage/Mechanics Question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subTitle"/>
          </p:nvPr>
        </p:nvSpPr>
        <p:spPr>
          <a:xfrm>
            <a:off x="162576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Punctuation – 13% (10 question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Grammar/Usage – 16% (12 question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entence Structure – 24% (18 question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Garamond"/>
              </a:rPr>
              <a:t>Rhetorical Skills Question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162576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trategy – 16%  (12 question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Organization – 15%  (11 question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tyle – 16%  (12 question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Garamond"/>
              </a:rPr>
              <a:t>Questions about Writing Strategy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subTitle"/>
          </p:nvPr>
        </p:nvSpPr>
        <p:spPr>
          <a:xfrm>
            <a:off x="162576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12 questions based on the concepts covered in the following sli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Garamond"/>
              </a:rPr>
              <a:t>Audienc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subTitle"/>
          </p:nvPr>
        </p:nvSpPr>
        <p:spPr>
          <a:xfrm>
            <a:off x="1447920" y="320040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Questions which ask you to determin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if the writing does wha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the author intended for it to do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Example - Pg. 4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Garamond"/>
              </a:rPr>
              <a:t>Suppor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subTitle"/>
          </p:nvPr>
        </p:nvSpPr>
        <p:spPr>
          <a:xfrm>
            <a:off x="1371600" y="2971800"/>
            <a:ext cx="64008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Questions which ask you to determine the effect of adding or removing material from the essa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Example – pg. 43 and 4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Garamond"/>
              </a:rPr>
              <a:t>Introductory Paragraphs and Introductory Sentence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1600200" y="3580920"/>
            <a:ext cx="6400800" cy="19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Questions asking you to identify the best introductory paragraph or introductory sentences for paragraph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Example – pg. 46 and 4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990360" y="53316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Garamond"/>
              </a:rPr>
              <a:t>Introductory Paragraph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 type="subTitle"/>
          </p:nvPr>
        </p:nvSpPr>
        <p:spPr>
          <a:xfrm>
            <a:off x="762120" y="1752480"/>
            <a:ext cx="761976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Present background information on top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Provide interesting quote related to the subj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Use a hook to gain the reader’s atten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Establish relevance of the subject mat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Present the thesis stat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istrator</cp:lastModifiedBy>
  <dcterms:modified xsi:type="dcterms:W3CDTF">2012-03-10T18:36:30Z</dcterms:modified>
  <cp:revision>15</cp:revision>
  <dc:subject/>
  <dc:title>PowerPoint Presentation</dc:title>
</cp:coreProperties>
</file>